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type.wav" ContentType="audio/x-wav"/>
  <Override PartName="/ppt/media/image1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motor.wav" ContentType="audio/x-wav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DE8-DB26-4BD1-8872-0793EFF6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746-6660-4B2E-9F19-815760D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74D-6F41-4DB8-B319-96AA5150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004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368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004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01C-53E2-40B2-9949-DB47C939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FD22-6CAE-40EA-80FA-004A27F9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DF6C-24C2-4345-86A2-67435EE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304E-DC4E-4CED-98AC-626D248C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5A7E-72EE-4C50-9CE6-BEC5CF20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E271-9910-4F4F-B0E8-A2D8E524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93680" y="838080"/>
            <a:ext cx="67626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74ED-9C02-42F6-B429-BE8D1ACF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8A0D-218D-49B3-A763-AB680DEE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3DC-9D7C-4F4B-8B8B-A92767C4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C24D-0741-491A-BB1A-C4283829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EE09-EC65-4BDA-830D-B8EC6B2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2932-D54A-41A4-A2B6-CB86A55C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ECC9-3E9B-4EEF-829B-51D87F7E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004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676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9368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8004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676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CE1F-EA63-4D6C-B0FF-8BAF6F55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6EE-05A4-4020-AC0D-04A30894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3B3-C0BF-4AB7-973C-D725CEFA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A6B-EB57-435A-BE19-749C61B9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3680" y="838080"/>
            <a:ext cx="67626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B4D-4F6C-4A5F-BF5D-BEBF3B35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628-4A11-4372-B733-42CBF412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520-7ED8-4A09-B10D-9A68E46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7EC-B163-48F5-9593-8F2FDAA7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C3D-6ADE-4147-9037-1F95E8B98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37FF-D4E4-400D-AFAB-2FF979E24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2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 or Me?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5596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I or 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ontknow"/>
          <p:cNvPicPr/>
          <p:nvPr/>
        </p:nvPicPr>
        <p:blipFill>
          <a:blip r:embed="rId1"/>
          <a:stretch/>
        </p:blipFill>
        <p:spPr>
          <a:xfrm>
            <a:off x="3276720" y="4648320"/>
            <a:ext cx="2190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 besid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erry and 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ys"/>
          <p:cNvPicPr/>
          <p:nvPr/>
        </p:nvPicPr>
        <p:blipFill>
          <a:blip r:embed="rId1"/>
          <a:stretch/>
        </p:blipFill>
        <p:spPr>
          <a:xfrm>
            <a:off x="4114800" y="2743200"/>
            <a:ext cx="270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93680" y="1714320"/>
            <a:ext cx="6762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 when do you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ith the other person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na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ttentive"/>
          <p:cNvPicPr/>
          <p:nvPr/>
        </p:nvPicPr>
        <p:blipFill>
          <a:blip r:embed="rId1"/>
          <a:stretch/>
        </p:blipFill>
        <p:spPr>
          <a:xfrm>
            <a:off x="3691080" y="3421080"/>
            <a:ext cx="3243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259092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er the word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lus the other perso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name.  Read the sentence and listen for the correct prono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ic"/>
          <p:cNvPicPr/>
          <p:nvPr/>
        </p:nvPicPr>
        <p:blipFill>
          <a:blip r:embed="rId1"/>
          <a:stretch/>
        </p:blipFill>
        <p:spPr>
          <a:xfrm>
            <a:off x="6781680" y="0"/>
            <a:ext cx="18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01760" y="2496960"/>
            <a:ext cx="78422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bert and I walked ho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676520" y="2438280"/>
            <a:ext cx="2819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kids6"/>
          <p:cNvPicPr/>
          <p:nvPr/>
        </p:nvPicPr>
        <p:blipFill>
          <a:blip r:embed="rId1"/>
          <a:stretch/>
        </p:blipFill>
        <p:spPr>
          <a:xfrm>
            <a:off x="3962520" y="37339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573280"/>
            <a:ext cx="83822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e the paper to Steve and 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486400" y="25146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copypaper_color"/>
          <p:cNvPicPr/>
          <p:nvPr/>
        </p:nvPicPr>
        <p:blipFill>
          <a:blip r:embed="rId1"/>
          <a:stretch/>
        </p:blipFill>
        <p:spPr>
          <a:xfrm>
            <a:off x="2057400" y="3314880"/>
            <a:ext cx="5238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the sentence that correctly uses I and m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ager"/>
          <p:cNvPicPr/>
          <p:nvPr/>
        </p:nvPicPr>
        <p:blipFill>
          <a:blip r:embed="rId1"/>
          <a:stretch/>
        </p:blipFill>
        <p:spPr>
          <a:xfrm>
            <a:off x="3962520" y="3505320"/>
            <a:ext cx="2968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e and I worked for hou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e and me worked for hou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22096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00200" y="28954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comptrkids"/>
          <p:cNvPicPr/>
          <p:nvPr/>
        </p:nvPicPr>
        <p:blipFill>
          <a:blip r:embed="rId1"/>
          <a:stretch/>
        </p:blipFill>
        <p:spPr>
          <a:xfrm>
            <a:off x="3352680" y="3581280"/>
            <a:ext cx="36576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b and I rode the bu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b and me rode the bu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676520" y="22096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676520" y="28954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bus-catch"/>
          <p:cNvPicPr/>
          <p:nvPr/>
        </p:nvPicPr>
        <p:blipFill>
          <a:blip r:embed="rId1"/>
          <a:stretch/>
        </p:blipFill>
        <p:spPr>
          <a:xfrm>
            <a:off x="3733920" y="3809880"/>
            <a:ext cx="26668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Gary and me paint thi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Gary and I paint thi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743200" y="22096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743200" y="29718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Artwork"/>
          <p:cNvPicPr/>
          <p:nvPr/>
        </p:nvPicPr>
        <p:blipFill>
          <a:blip r:embed="rId1"/>
          <a:stretch/>
        </p:blipFill>
        <p:spPr>
          <a:xfrm>
            <a:off x="3733920" y="327672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hind Sue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hind Sue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81480" y="22096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181480" y="28954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i-know"/>
          <p:cNvPicPr/>
          <p:nvPr/>
        </p:nvPicPr>
        <p:blipFill>
          <a:blip r:embed="rId1"/>
          <a:stretch/>
        </p:blipFill>
        <p:spPr>
          <a:xfrm>
            <a:off x="3429000" y="3886200"/>
            <a:ext cx="2581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7760"/>
            <a:ext cx="6762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you write about yourself, you use the pronouns I or me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nouncing"/>
          <p:cNvPicPr/>
          <p:nvPr/>
        </p:nvPicPr>
        <p:blipFill>
          <a:blip r:embed="rId1"/>
          <a:stretch/>
        </p:blipFill>
        <p:spPr>
          <a:xfrm>
            <a:off x="6781680" y="952560"/>
            <a:ext cx="18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looked at Hal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looked at Hal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19920" y="2209680"/>
            <a:ext cx="1676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019920" y="2895480"/>
            <a:ext cx="1676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boys"/>
          <p:cNvPicPr/>
          <p:nvPr/>
        </p:nvPicPr>
        <p:blipFill>
          <a:blip r:embed="rId1"/>
          <a:stretch/>
        </p:blipFill>
        <p:spPr>
          <a:xfrm>
            <a:off x="3886200" y="4038480"/>
            <a:ext cx="2266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me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me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523880" y="2057400"/>
            <a:ext cx="2667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523880" y="2819520"/>
            <a:ext cx="2667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ontacts"/>
          <p:cNvPicPr/>
          <p:nvPr/>
        </p:nvPicPr>
        <p:blipFill>
          <a:blip r:embed="rId1"/>
          <a:stretch/>
        </p:blipFill>
        <p:spPr>
          <a:xfrm>
            <a:off x="4114800" y="4038480"/>
            <a:ext cx="2627280" cy="2667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6934320" y="21337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934320" y="335268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ontacts"/>
          <p:cNvPicPr/>
          <p:nvPr/>
        </p:nvPicPr>
        <p:blipFill>
          <a:blip r:embed="rId1"/>
          <a:stretch/>
        </p:blipFill>
        <p:spPr>
          <a:xfrm>
            <a:off x="4114800" y="4038480"/>
            <a:ext cx="262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I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me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boyteach"/>
          <p:cNvPicPr/>
          <p:nvPr/>
        </p:nvPicPr>
        <p:blipFill>
          <a:blip r:embed="rId1"/>
          <a:stretch/>
        </p:blipFill>
        <p:spPr>
          <a:xfrm>
            <a:off x="3657600" y="4524480"/>
            <a:ext cx="2752560" cy="2409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2819520" y="220968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819520" y="335268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42100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I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oyteach"/>
          <p:cNvPicPr/>
          <p:nvPr/>
        </p:nvPicPr>
        <p:blipFill>
          <a:blip r:embed="rId1"/>
          <a:stretch/>
        </p:blipFill>
        <p:spPr>
          <a:xfrm>
            <a:off x="3657600" y="4524480"/>
            <a:ext cx="2752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hairstudents"/>
          <p:cNvPicPr/>
          <p:nvPr/>
        </p:nvPicPr>
        <p:blipFill>
          <a:blip r:embed="rId1"/>
          <a:stretch/>
        </p:blipFill>
        <p:spPr>
          <a:xfrm>
            <a:off x="4095720" y="3619440"/>
            <a:ext cx="2792520" cy="3238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6324480" y="205740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324480" y="28195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chairstudents"/>
          <p:cNvPicPr/>
          <p:nvPr/>
        </p:nvPicPr>
        <p:blipFill>
          <a:blip r:embed="rId1"/>
          <a:stretch/>
        </p:blipFill>
        <p:spPr>
          <a:xfrm>
            <a:off x="4095720" y="3619440"/>
            <a:ext cx="2792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like to go to church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hurch"/>
          <p:cNvPicPr/>
          <p:nvPr/>
        </p:nvPicPr>
        <p:blipFill>
          <a:blip r:embed="rId1"/>
          <a:stretch/>
        </p:blipFill>
        <p:spPr>
          <a:xfrm>
            <a:off x="4062240" y="2747880"/>
            <a:ext cx="24480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934320" y="20574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934320" y="34290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" descr="door-open"/>
          <p:cNvPicPr/>
          <p:nvPr/>
        </p:nvPicPr>
        <p:blipFill>
          <a:blip r:embed="rId1"/>
          <a:stretch/>
        </p:blipFill>
        <p:spPr>
          <a:xfrm>
            <a:off x="4038480" y="4191120"/>
            <a:ext cx="19051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door-open"/>
          <p:cNvPicPr/>
          <p:nvPr/>
        </p:nvPicPr>
        <p:blipFill>
          <a:blip r:embed="rId1"/>
          <a:stretch/>
        </p:blipFill>
        <p:spPr>
          <a:xfrm>
            <a:off x="4038480" y="4191120"/>
            <a:ext cx="19051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ember the 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And Te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using I or me and another perso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name, cover the word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i="1" lang="ja-JP" sz="32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other perso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name to find which pronoun would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agic"/>
          <p:cNvPicPr/>
          <p:nvPr/>
        </p:nvPicPr>
        <p:blipFill>
          <a:blip r:embed="rId1"/>
          <a:stretch/>
        </p:blipFill>
        <p:spPr>
          <a:xfrm>
            <a:off x="4724280" y="4191120"/>
            <a:ext cx="18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 gave the book to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ooks-carry"/>
          <p:cNvPicPr/>
          <p:nvPr/>
        </p:nvPicPr>
        <p:blipFill>
          <a:blip r:embed="rId1"/>
          <a:stretch/>
        </p:blipFill>
        <p:spPr>
          <a:xfrm>
            <a:off x="3429000" y="2590920"/>
            <a:ext cx="35528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93680" y="110484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the pronoun appears in the subject of a sentence,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67629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 late for schoo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981080" y="4419720"/>
            <a:ext cx="5335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2819520" y="44197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4724280" y="4648320"/>
            <a:ext cx="2514600" cy="1752120"/>
            <a:chOff x="4724280" y="4648320"/>
            <a:chExt cx="2514600" cy="1752120"/>
          </a:xfrm>
        </p:grpSpPr>
        <p:sp>
          <p:nvSpPr>
            <p:cNvPr id="98" name="AutoShape 7"/>
            <p:cNvSpPr/>
            <p:nvPr/>
          </p:nvSpPr>
          <p:spPr>
            <a:xfrm>
              <a:off x="4724280" y="464832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4800600" y="563868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Predica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2209680" y="4876920"/>
            <a:ext cx="2514600" cy="1752120"/>
            <a:chOff x="2209680" y="4876920"/>
            <a:chExt cx="2514600" cy="1752120"/>
          </a:xfrm>
        </p:grpSpPr>
        <p:sp>
          <p:nvSpPr>
            <p:cNvPr id="101" name="AutoShape 12"/>
            <p:cNvSpPr/>
            <p:nvPr/>
          </p:nvSpPr>
          <p:spPr>
            <a:xfrm>
              <a:off x="2209680" y="487692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2286000" y="586728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Subjec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3680" y="110484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the pronoun appears in the predicate part of the sentence,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807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erry went home with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752480" y="4191120"/>
            <a:ext cx="13716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81280" y="41911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5181480" y="4267080"/>
            <a:ext cx="2514600" cy="1752840"/>
            <a:chOff x="5181480" y="4267080"/>
            <a:chExt cx="2514600" cy="1752840"/>
          </a:xfrm>
        </p:grpSpPr>
        <p:sp>
          <p:nvSpPr>
            <p:cNvPr id="108" name="AutoShape 7"/>
            <p:cNvSpPr/>
            <p:nvPr/>
          </p:nvSpPr>
          <p:spPr>
            <a:xfrm>
              <a:off x="5181480" y="4267080"/>
              <a:ext cx="457200" cy="106704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257800" y="5257800"/>
              <a:ext cx="243828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Predica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1828800" y="4343400"/>
            <a:ext cx="2514600" cy="1752120"/>
            <a:chOff x="1828800" y="4343400"/>
            <a:chExt cx="2514600" cy="1752120"/>
          </a:xfrm>
        </p:grpSpPr>
        <p:sp>
          <p:nvSpPr>
            <p:cNvPr id="111" name="AutoShape 10"/>
            <p:cNvSpPr/>
            <p:nvPr/>
          </p:nvSpPr>
          <p:spPr>
            <a:xfrm>
              <a:off x="1828800" y="434340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905120" y="533376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Subjec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I and Me With Another Na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we combine the pronouns I and me with another pers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etsy and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 to rea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V was too loud for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ob and 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6668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ith another person, always put other person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name first. 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obby and 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roke the blue lam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lamp2"/>
          <p:cNvPicPr/>
          <p:nvPr/>
        </p:nvPicPr>
        <p:blipFill>
          <a:blip r:embed="rId1"/>
          <a:stretch/>
        </p:blipFill>
        <p:spPr>
          <a:xfrm>
            <a:off x="4038480" y="2590920"/>
            <a:ext cx="244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39:22Z</dcterms:created>
  <dc:creator>Connie Campbell</dc:creator>
  <dc:description/>
  <dc:language>en-US</dc:language>
  <cp:lastModifiedBy>teacher</cp:lastModifiedBy>
  <dcterms:modified xsi:type="dcterms:W3CDTF">2013-02-25T02:38:17Z</dcterms:modified>
  <cp:revision>8</cp:revision>
  <dc:subject/>
  <dc:title>I or Me?</dc:title>
</cp:coreProperties>
</file>